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93F3-1986-4BFC-BBB1-D830F75B4B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4CCB-9A94-44EA-95F4-E19762FE69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79AA-7FA4-4FF5-BADA-1EACB29E42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30398-7BB7-44D5-8EB6-9BFCE14F00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DB8D-48F7-492F-8E43-2F4B370F68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8ACE-B538-4934-897B-1FDC9B9E69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4F50-7717-4282-9A0F-F34C65DF45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9D54-35D5-4C1D-AB55-88F45EC45A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88C3-922A-4AB8-9951-4740FF0FA7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E884-5ABC-41B8-8ABB-874360B417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E759-508D-4AA0-B4C1-C85E49DB5C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FCD3-9213-4012-84B3-DDE66ED9E8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F22B-3514-482B-8DA9-98CA102438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and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AF0B-D173-4886-988C-D881B55E668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20FE-E9AF-4CDB-AE2B-506618B2C2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981E3A-9339-4F77-A90B-93E0470FFA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C701E76-B093-4810-844C-76B3988CBD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77343AA-8428-47BC-A6FD-6F39BADA4E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4F8CD8-AAAA-463A-A601-7808F48D53C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F3546D-61A9-4175-AD45-18F07BA35E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0F292C-D0CB-47F6-8DD2-B4270CBD75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6EAEF8-DCE7-4D29-9DEF-7503BFA17F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2BB5768-71CA-40E1-B838-047E057BC7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ABB9489-6F8B-49F7-831D-D20FEE90B1A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F69013AD-757A-47D1-93DD-432AFEE9990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F9308891-C29D-4FC7-BD46-BD7077731C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3118496-7735-4774-85FF-52F95D7E061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9AE767AA-DCCD-4DE2-9F5B-2F91EF0ED20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047BEC8B-0573-4225-950C-25204455D4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0D202CD6-4F86-4F96-AA65-F9F273DFC77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0A17DDF-71D7-48CD-9253-AEA7C8AD64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C10E4784-2C2B-4DC9-8FAD-04874A37AE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6EEF90A-8741-4AA2-AFFE-6494345E66B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D1795E5-45A8-4A84-858E-F638F7CCB34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6E7E186B-18DB-4C63-A015-247B3AA4328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01494B49-CF92-40EE-9421-F44A2C63198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AFD5491-128E-4BA4-8580-E1C6A08A131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8F68C24-753C-4238-B5CA-952FCA117D5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CAD065-47E9-4B82-86DB-E0757E55DD3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9BA4AB-20CD-46C9-874D-9563F4198D8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82ADEEF-3CCE-47ED-B26F-EA5A1934D17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AD4CDFF-9889-4070-AA01-CC4FF5E8B6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ADAFCB2-03CE-4D8E-A974-7915619AC7A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CF34F67-A863-41FF-861F-96B33A2CA34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BEB614-75E8-4E5C-BEF6-00AFDB5FC4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AC6BBB-DF14-4182-B75E-20DC197BB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DBEAE7-9375-44A3-8DDD-E3F746052CD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C26C10-D6F9-456A-AFFD-99A28392005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F916D94-E3BB-403B-8EBC-88BA7D9EBAC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77B97C2-4823-40F7-8672-6146D812A0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4C5E4AC-2C1C-4024-AEB9-D051A43A268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4DB0F8F-3E18-4F49-A11D-B190B8CBE8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0951417-A1EF-416A-8EAA-322DB0C3774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6E9BC34-21BF-4F78-9005-A4BC69196FD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F66D6EC-3DD0-4639-84BE-7D8A3A370CD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C7E45B9-A232-4133-976F-DFB6A057A77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371EC-7935-41B9-A56F-1C533A523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F5F39E4-BD61-46F1-9FC4-E57FA90D6DF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3B5A9A8-AB53-4096-929D-A70A992B079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94A8ADC-754C-4BAA-9E20-10080A89014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8BD563E-91F5-452D-85BD-F58D2FE408B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31D4804-CD90-4F78-99BD-1452B030B91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904C58-7EC5-4D90-A73C-A522E009E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D93D7-8444-4FAD-858D-8910BA43D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CCEAEB-F4E2-42E7-A7E7-35E82FBA7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D0D0C0-1DA4-452C-B6E0-26FDEAC48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7D5AF-4592-4DC8-A92F-8C011B067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019B8A-2D97-452B-A38F-FC66A7E99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EF07D1-0377-4A3D-814B-3D96D4D11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9C74A-C01C-47C2-86DB-3F8ED887C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36942B-7887-4615-AF35-4AC1D044D6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3B7B83-C0DF-4B45-A926-EB1605CF76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C5934E-71AB-4C27-8FA5-A37FC5BE45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F777F2-BA97-4C05-88EA-FA117F20BB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251565-AC16-4877-929D-D3AD94AB3B6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18003D-3049-4E5B-9BE4-B2D12BD4BE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147F25-03EE-4980-B5A3-12A7E7C0C7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776D61-01ED-472D-B3C8-9F836BE225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44EBC7-8C82-434F-AB76-8F94ECE06F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0E6B55-4617-4638-8179-1129CDC5B2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425FC6-94CB-4D6D-8FC6-0DB34CDC5D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7D6CA7-6024-4356-A41D-9732B25AA6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56BCBD-2B12-40C1-9CC0-5364DB32586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CD3C47-58E1-4C0A-AD87-50DBADEBD8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E9260A3-57F9-4E3A-A599-B442AFF405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8AEDF50-6F3F-43D0-A9C2-805AA3E412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885BD73-4887-4CB7-A483-39C3C01B1A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5D8F07B-AC46-4137-BB4D-62652D4767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8352B27-05D1-4300-9AF6-BBE905E7CB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D275565-D750-4281-BDAB-A5B3911760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C026684-8276-4C3C-9D9C-B3CF51620C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94296C3-1CA0-4DF3-B469-A27BC1F07D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72C2898-12F3-43C1-B6A1-3DEBE6A9CB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94D0C90-3E2D-4488-ADA3-3671025AE7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48EBD19-7799-4A42-9DA9-8006A8E18B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DE3C9F0D-D555-48C2-B255-E5A2C10D1A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DE62BED3-95B7-4F1A-ADF3-A69448519D1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B5AF87C-FB48-4CBC-83BE-9D443CD148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112E44C-67E3-4275-8C6B-A41325AF94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587B81A-A871-4F2D-8427-6848AA4514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D5DA7DFA-D294-4939-B139-D7D5BA3F5E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A99C57DE-6797-4794-A19A-E13F891D2D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0A07F6B-1AF2-4153-89D6-CA4AF5CAFF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42D8462-AC37-4B52-AA53-1FD67FEA9B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A66D4484-8CEF-4A6B-927D-7C93F1AB58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C417E89-F0E6-4F46-87CF-B5F6DD27A6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67A8599F-409E-43D2-B960-5741408AFFC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36D1D97D-9BFF-4F36-8D04-F6F9259FA70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C18B98F8-7C0B-4D82-B1B5-4EA8B8A68F0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D0772788-C211-4081-823E-73D845FBB8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AE6D2D30-6CED-4239-B849-60D4C49C0FF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026F4A2-4A53-4874-AA03-FB3F5FED3C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1A8E8F15-3C24-4825-B636-0B5B2A6B320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C2FD2813-2B65-401A-BCDC-8D6779307F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4BD48FF-29E6-4232-888D-11D022EB64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5018058-356D-42DA-9B5A-7527C4FEF7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DC009FE-7D46-4019-8B0E-A234647FD7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30ABDCDD-0B3A-4DEB-AD7F-0DD9F98F98C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74DB9343-9B49-4EF2-8ADC-2212CC295E2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B62174B9-4AA6-4022-8EC4-D19C43FE562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AE2C4AA-B82B-404E-ABDA-BECA6A1F93A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082F96-C74B-4630-94AF-A549DFEC8D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E8CA053-F8DF-4369-8900-165615FC4F5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A1329E9-D473-44A1-99F4-40AF1A4FB25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69E8DD-5015-42D1-8525-320545C6F1E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EFAA249-9930-462F-98ED-28D78E7E6F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51DE95-F2A3-4089-B477-C3FF3E60BC4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9F3BAF-16AA-4FFC-8E18-258A2E4144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9C53DF-8D3F-451D-8935-DB5911EDC0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EE424E8-4E60-4481-9C89-BBA1020F53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15A5CD1-62E5-447D-B9FE-6C3C4D39232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817822F-2DC6-4E5E-840E-42C034712ED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6712C58-E3D5-4F8E-A5EF-6EB8ED8CFA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C60EB91-D3C7-4429-986F-1816C019017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629799-2F0C-4482-8EC4-B928D82B1D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5D52236-B751-44C7-9952-48C6F8FCB9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A41ABF-FC7E-430B-A161-BF295261FF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BC982A0-1A2F-473B-9B42-2334EB04FE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2636D1-0EB9-49DE-ADD8-D249EACCBDA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23D2BE-5046-4494-8F46-5DFF22137E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88C527-9FF4-4D34-AA7D-7B29711A25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6093CF-0DE8-4286-990E-30023DCE74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3E5511D-8CDD-45F1-A95B-70A4A2B889A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9A5DF9-B22C-4409-B998-1BC5A222427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9B39901-A4B9-4D31-AF2D-0965312241D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6522A6-4558-4CA9-8EC2-65A15033EA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93A45F-28B1-4AF3-A637-0532F3B3B38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8BB5-0C8D-45A8-95EF-774D2C94AAA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38A3-BAE0-4B18-8757-9C7D148A5628}"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652E-D4C8-4B2D-BC57-E7EC8765B28F}"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E434-03A4-43B0-B941-E7C66717D9A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6F4E-B96C-4664-8E33-1E6AA48D5D1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B198-029A-471A-A45D-945F4F20617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35F1-8CD8-441D-99C7-7357B850797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AB5E-3822-4055-AC6E-AC0ED1F01402}"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FA3D-087E-466E-B265-7BA8786B607C}"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CF2E-6C62-4F4C-BBB8-D511BB026BB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9FFA-5FF2-4A52-823D-8F3A0E88D8E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723F-609D-4F31-BA07-14386623F045}"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ADC5-4756-4657-859A-66919827EB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8D15-938B-4994-A04E-F1E7AD19FA78}"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B757-86AA-4E1B-B871-3CA638820E9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B93E-AD67-40B8-B9BD-D8F3C7A4DB3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E4BBC-E149-41E0-82DB-AAFEB8A0695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3494-5D75-49CB-A04C-6A71E0B18AD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67AC-43B7-4F20-B712-766C82DA618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7400-5C36-4037-9B54-AC0A26016A5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345F-0F6A-4823-9855-177B235CC288}"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EADC-55A5-45C9-9D07-7CD6E5DEF1DD}"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C537-2A99-43F3-8EC0-979F574F47A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28T14:50:25Z</dcterms:modified>
  <cp:revision>613</cp:revision>
  <dc:subject/>
  <dc:title>Slide 1</dc:title>
</cp:coreProperties>
</file>